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2904BF-D64C-44ED-A79A-DDCDD31DE542}" type="datetime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644DFA-6CC2-454B-9CF0-669532EC452E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019366-0AB4-42E6-9FF6-BDA0185843A2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f optimistic concurrency control: abort on any confli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15120E-6A7F-421B-AEBA-5EDF3BCAF40E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C32E4-1799-4046-85EE-AC5DA45A37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22280"/>
            <a:ext cx="82296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075C0-D54C-4396-BDAE-74E11B13AD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22280"/>
            <a:ext cx="40158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22280"/>
            <a:ext cx="40158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FEFFB-B239-47D9-B05E-D69B04EA1A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22280"/>
            <a:ext cx="26496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22280"/>
            <a:ext cx="26496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22280"/>
            <a:ext cx="26496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57186-55EF-4FA4-B8CD-44BBE3BCB0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64640"/>
            <a:ext cx="82296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22280"/>
            <a:ext cx="40158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EED46-9054-4129-8138-53DC551057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022280"/>
            <a:ext cx="40158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22280"/>
            <a:ext cx="82296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022280"/>
            <a:ext cx="82296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22280"/>
            <a:ext cx="40158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022280"/>
            <a:ext cx="40158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022280"/>
            <a:ext cx="26496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022280"/>
            <a:ext cx="26496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022280"/>
            <a:ext cx="26496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343841-4138-4D87-92D7-8DFC54D29D1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A089EA-C554-469F-86F6-1CA3F602021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65BEA1-71F1-45FB-B408-5AC31B1825E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41717F-DF85-4A5F-B41C-7444C38010C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88EBE8-E4C9-4719-8CEF-73191F1965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94DE8-7E9E-446F-AFE0-64D48AD2E6E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764640"/>
            <a:ext cx="82296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1A7330-1119-4151-B756-B776AC535F9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22280"/>
            <a:ext cx="40158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8C848C-D122-4254-A3D4-FFEA12D5AC0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4022280"/>
            <a:ext cx="40158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5741E0-60B2-45AF-BA4A-437113E8C32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22280"/>
            <a:ext cx="82296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F1A9F4-FD05-4C88-9249-207FC118DCB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4022280"/>
            <a:ext cx="82296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D19CE7-427F-45B6-AE67-96CE8293F07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22280"/>
            <a:ext cx="40158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4022280"/>
            <a:ext cx="40158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2B1E76-81C2-46B8-A928-2CB55DAC8C7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4022280"/>
            <a:ext cx="26496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4022280"/>
            <a:ext cx="26496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4022280"/>
            <a:ext cx="26496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23A6BF-6A51-496F-AA7D-4D2EAA7F05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6525D-3D77-4C68-BAF8-1F6F608066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0E4B8-408A-47CC-846A-A0EBCD9D34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764640"/>
            <a:ext cx="82296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EE58A-5BEC-40F4-818D-24A29CB2B6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22280"/>
            <a:ext cx="40158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A0B91-A87D-4448-8BB3-3DA64C6DE6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22280"/>
            <a:ext cx="40158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02B03-C3FE-42D7-9DD7-F09FB79857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22280"/>
            <a:ext cx="8229600" cy="22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C505A-DE3B-4711-AF86-E0B743DBE6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76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76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Group 9"/>
          <p:cNvGrpSpPr/>
          <p:nvPr/>
        </p:nvGrpSpPr>
        <p:grpSpPr>
          <a:xfrm>
            <a:off x="0" y="11160"/>
            <a:ext cx="4211640" cy="749160"/>
            <a:chOff x="0" y="11160"/>
            <a:chExt cx="4211640" cy="749160"/>
          </a:xfrm>
        </p:grpSpPr>
        <p:pic>
          <p:nvPicPr>
            <p:cNvPr id="5" name="Picture 7" descr="Logo &amp; University of Sydney Text"/>
            <p:cNvPicPr/>
            <p:nvPr/>
          </p:nvPicPr>
          <p:blipFill>
            <a:blip r:embed="rId4"/>
            <a:stretch/>
          </p:blipFill>
          <p:spPr>
            <a:xfrm>
              <a:off x="0" y="11160"/>
              <a:ext cx="356400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Text Box 8"/>
            <p:cNvSpPr/>
            <p:nvPr/>
          </p:nvSpPr>
          <p:spPr>
            <a:xfrm>
              <a:off x="828720" y="463680"/>
              <a:ext cx="338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School of Information Technolog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" name="Picture 11" descr="Lion Original"/>
          <p:cNvPicPr/>
          <p:nvPr/>
        </p:nvPicPr>
        <p:blipFill>
          <a:blip r:embed="rId5"/>
          <a:stretch/>
        </p:blipFill>
        <p:spPr>
          <a:xfrm>
            <a:off x="7940520" y="42840"/>
            <a:ext cx="1187640" cy="61596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3"/>
          <p:cNvSpPr/>
          <p:nvPr/>
        </p:nvSpPr>
        <p:spPr>
          <a:xfrm>
            <a:off x="-6480" y="6848640"/>
            <a:ext cx="9144000" cy="36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6" descr="SIT ColourFooter"/>
          <p:cNvPicPr/>
          <p:nvPr/>
        </p:nvPicPr>
        <p:blipFill>
          <a:blip r:embed="rId6"/>
          <a:stretch/>
        </p:blipFill>
        <p:spPr>
          <a:xfrm>
            <a:off x="0" y="6669000"/>
            <a:ext cx="9144000" cy="21600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3"/>
          <p:cNvSpPr>
            <a:spLocks noGrp="1"/>
          </p:cNvSpPr>
          <p:nvPr>
            <p:ph type="ftr" idx="1"/>
          </p:nvPr>
        </p:nvSpPr>
        <p:spPr>
          <a:xfrm>
            <a:off x="107640" y="6653160"/>
            <a:ext cx="828036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2"/>
          </p:nvPr>
        </p:nvSpPr>
        <p:spPr>
          <a:xfrm>
            <a:off x="8459280" y="6664320"/>
            <a:ext cx="68436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A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62D4CF-C6DB-4F30-952A-484F6DF90616}" type="slidenum">
              <a:rPr b="0" lang="en-A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8" descr="SIT Building 1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2160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Lion Original"/>
          <p:cNvPicPr/>
          <p:nvPr/>
        </p:nvPicPr>
        <p:blipFill>
          <a:blip r:embed="rId3"/>
          <a:stretch/>
        </p:blipFill>
        <p:spPr>
          <a:xfrm>
            <a:off x="6732720" y="907920"/>
            <a:ext cx="1834920" cy="952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Logo &amp; University of Sydney Text"/>
          <p:cNvPicPr/>
          <p:nvPr/>
        </p:nvPicPr>
        <p:blipFill>
          <a:blip r:embed="rId4"/>
          <a:stretch/>
        </p:blipFill>
        <p:spPr>
          <a:xfrm>
            <a:off x="5292720" y="-38160"/>
            <a:ext cx="3816360" cy="8031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1"/>
          <p:cNvSpPr/>
          <p:nvPr/>
        </p:nvSpPr>
        <p:spPr>
          <a:xfrm>
            <a:off x="6227640" y="42084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School of Information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2" descr="SIT ColourFooter"/>
          <p:cNvPicPr/>
          <p:nvPr/>
        </p:nvPicPr>
        <p:blipFill>
          <a:blip r:embed="rId5"/>
          <a:stretch/>
        </p:blipFill>
        <p:spPr>
          <a:xfrm>
            <a:off x="-11160" y="6669000"/>
            <a:ext cx="9155160" cy="216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0" y="0"/>
          <a:ext cx="9144000" cy="76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76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3" name="Group 9"/>
          <p:cNvGrpSpPr/>
          <p:nvPr/>
        </p:nvGrpSpPr>
        <p:grpSpPr>
          <a:xfrm>
            <a:off x="0" y="11160"/>
            <a:ext cx="4211640" cy="749160"/>
            <a:chOff x="0" y="11160"/>
            <a:chExt cx="4211640" cy="749160"/>
          </a:xfrm>
        </p:grpSpPr>
        <p:pic>
          <p:nvPicPr>
            <p:cNvPr id="94" name="Picture 7" descr="Logo &amp; University of Sydney Text"/>
            <p:cNvPicPr/>
            <p:nvPr/>
          </p:nvPicPr>
          <p:blipFill>
            <a:blip r:embed="rId4"/>
            <a:stretch/>
          </p:blipFill>
          <p:spPr>
            <a:xfrm>
              <a:off x="0" y="11160"/>
              <a:ext cx="356400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8"/>
            <p:cNvSpPr/>
            <p:nvPr/>
          </p:nvSpPr>
          <p:spPr>
            <a:xfrm>
              <a:off x="828720" y="463680"/>
              <a:ext cx="338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AU" sz="1200" spc="-1" strike="noStrike">
                  <a:solidFill>
                    <a:srgbClr val="000000"/>
                  </a:solidFill>
                  <a:latin typeface="Arial"/>
                </a:rPr>
                <a:t>School of Information Technolog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6" name="Picture 11" descr="Lion Original"/>
          <p:cNvPicPr/>
          <p:nvPr/>
        </p:nvPicPr>
        <p:blipFill>
          <a:blip r:embed="rId5"/>
          <a:stretch/>
        </p:blipFill>
        <p:spPr>
          <a:xfrm>
            <a:off x="7940520" y="42840"/>
            <a:ext cx="1187640" cy="6159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13"/>
          <p:cNvSpPr/>
          <p:nvPr/>
        </p:nvSpPr>
        <p:spPr>
          <a:xfrm>
            <a:off x="-6480" y="6848640"/>
            <a:ext cx="9144000" cy="36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6" descr="SIT ColourFooter"/>
          <p:cNvPicPr/>
          <p:nvPr/>
        </p:nvPicPr>
        <p:blipFill>
          <a:blip r:embed="rId6"/>
          <a:stretch/>
        </p:blipFill>
        <p:spPr>
          <a:xfrm>
            <a:off x="0" y="6669000"/>
            <a:ext cx="9144000" cy="216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ftr" idx="3"/>
          </p:nvPr>
        </p:nvSpPr>
        <p:spPr>
          <a:xfrm>
            <a:off x="107640" y="6653160"/>
            <a:ext cx="828036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sldNum" idx="4"/>
          </p:nvPr>
        </p:nvSpPr>
        <p:spPr>
          <a:xfrm>
            <a:off x="8459280" y="6664320"/>
            <a:ext cx="68436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785EFB-A549-4108-ACCC-90E5E31A6CC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371600" y="422100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ichael Cahill</a:t>
            </a:r>
            <a:r>
              <a:rPr b="0" lang="en-AU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, Uwe Röhm and Alan Fek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chool of IT, University of Syd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{mjc, roehm, fekete}@it.usyd.edu.au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685800" y="2274840"/>
            <a:ext cx="7989840" cy="16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Serializable Isolation for</a:t>
            </a:r>
            <a:br>
              <a:rPr sz="3600"/>
            </a:b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Snapshot Databa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3" descr=""/>
          <p:cNvPicPr/>
          <p:nvPr/>
        </p:nvPicPr>
        <p:blipFill>
          <a:blip r:embed="rId1"/>
          <a:srcRect l="75939" t="0" r="9141" b="0"/>
          <a:stretch/>
        </p:blipFill>
        <p:spPr>
          <a:xfrm>
            <a:off x="3886200" y="5638680"/>
            <a:ext cx="1365120" cy="271440"/>
          </a:xfrm>
          <a:prstGeom prst="rect">
            <a:avLst/>
          </a:prstGeom>
          <a:ln w="0">
            <a:noFill/>
          </a:ln>
        </p:spPr>
      </p:pic>
      <p:sp>
        <p:nvSpPr>
          <p:cNvPr id="149" name="TextBox 5"/>
          <p:cNvSpPr/>
          <p:nvPr/>
        </p:nvSpPr>
        <p:spPr>
          <a:xfrm>
            <a:off x="2973240" y="5540400"/>
            <a:ext cx="91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l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uring runtime, rw-conflicts can interleave arbitrar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ave to consider begin and commit timestam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hich snapshot is a transaction read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an conflict with committed trans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ant to use existing engines as much a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ow runtime 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minimize unnecessary ab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8459640" y="6664320"/>
            <a:ext cx="68436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79EBF5-11D4-4CAD-800B-BF73920BC1B6}" type="slidenum">
              <a:rPr b="0" lang="en-A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SI anomalies: a simple cas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8"/>
          <p:cNvSpPr/>
          <p:nvPr/>
        </p:nvSpPr>
        <p:spPr>
          <a:xfrm>
            <a:off x="8459640" y="6664320"/>
            <a:ext cx="68436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57C6D2-1368-4B05-B4CA-1043EBF0564A}" type="slidenum">
              <a:rPr b="0" lang="en-A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439560" y="2743200"/>
            <a:ext cx="8264880" cy="1371600"/>
          </a:xfrm>
          <a:prstGeom prst="rect">
            <a:avLst/>
          </a:prstGeom>
          <a:ln w="0">
            <a:noFill/>
          </a:ln>
        </p:spPr>
      </p:pic>
      <p:grpSp>
        <p:nvGrpSpPr>
          <p:cNvPr id="197" name="Group 7"/>
          <p:cNvGrpSpPr/>
          <p:nvPr/>
        </p:nvGrpSpPr>
        <p:grpSpPr>
          <a:xfrm>
            <a:off x="5153760" y="4114440"/>
            <a:ext cx="3380760" cy="1157400"/>
            <a:chOff x="5153760" y="4114440"/>
            <a:chExt cx="3380760" cy="1157400"/>
          </a:xfrm>
        </p:grpSpPr>
        <p:sp>
          <p:nvSpPr>
            <p:cNvPr id="198" name="Bent Arrow 4"/>
            <p:cNvSpPr/>
            <p:nvPr/>
          </p:nvSpPr>
          <p:spPr>
            <a:xfrm flipV="1" rot="16200000">
              <a:off x="7620120" y="4266360"/>
              <a:ext cx="1066680" cy="761760"/>
            </a:xfrm>
            <a:prstGeom prst="pie">
              <a:avLst/>
            </a:prstGeom>
            <a:solidFill>
              <a:srgbClr val="333399"/>
            </a:solidFill>
            <a:ln w="25560">
              <a:solidFill>
                <a:srgbClr val="2323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Box 6"/>
            <p:cNvSpPr/>
            <p:nvPr/>
          </p:nvSpPr>
          <p:spPr>
            <a:xfrm>
              <a:off x="5153760" y="4812120"/>
              <a:ext cx="260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ivot commits la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The algorithm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a nutshel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dd two flags to each transaction (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t T0.out if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rw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-conflict T0 </a:t>
            </a:r>
            <a:r>
              <a:rPr b="0" lang="en-A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Wingdings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t T0.in if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rw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-conflict TN </a:t>
            </a:r>
            <a:r>
              <a:rPr b="0" lang="en-A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Wingdings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bort T0 (the pivot) if both T0.in and T0.out are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f T0 has already committed, abort the conflicting trans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 the following, we illustrate the main cases;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or full details, see the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8459640" y="6664320"/>
            <a:ext cx="68436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A11DDF-20E8-4FCC-9FDC-147D48AA6741}" type="slidenum">
              <a:rPr b="0" lang="en-A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Detection: write before rea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20"/>
          <p:cNvSpPr/>
          <p:nvPr/>
        </p:nvSpPr>
        <p:spPr>
          <a:xfrm>
            <a:off x="8459640" y="6664320"/>
            <a:ext cx="68436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F36D0A-29A2-4847-B721-E63AA4BA83A8}" type="slidenum">
              <a:rPr b="0" lang="en-A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7"/>
          <p:cNvGrpSpPr/>
          <p:nvPr/>
        </p:nvGrpSpPr>
        <p:grpSpPr>
          <a:xfrm>
            <a:off x="2909880" y="3614400"/>
            <a:ext cx="3103560" cy="1792440"/>
            <a:chOff x="2909880" y="3614400"/>
            <a:chExt cx="3103560" cy="1792440"/>
          </a:xfrm>
        </p:grpSpPr>
        <p:sp>
          <p:nvSpPr>
            <p:cNvPr id="206" name="Bent Arrow 5"/>
            <p:cNvSpPr/>
            <p:nvPr/>
          </p:nvSpPr>
          <p:spPr>
            <a:xfrm flipV="1" rot="16200000">
              <a:off x="5099040" y="3766320"/>
              <a:ext cx="1066680" cy="761760"/>
            </a:xfrm>
            <a:prstGeom prst="pie">
              <a:avLst/>
            </a:prstGeom>
            <a:solidFill>
              <a:srgbClr val="333399"/>
            </a:solidFill>
            <a:ln w="25560">
              <a:solidFill>
                <a:srgbClr val="2323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Box 6"/>
            <p:cNvSpPr/>
            <p:nvPr/>
          </p:nvSpPr>
          <p:spPr>
            <a:xfrm>
              <a:off x="2909880" y="3850560"/>
              <a:ext cx="24940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AU" sz="3200" spc="-1" strike="noStrike">
                  <a:solidFill>
                    <a:srgbClr val="000000"/>
                  </a:solidFill>
                  <a:latin typeface="Arial"/>
                </a:rPr>
                <a:t>read old 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AU" sz="3200" spc="-1" strike="noStrike">
                  <a:solidFill>
                    <a:srgbClr val="000000"/>
                  </a:solidFill>
                  <a:latin typeface="Arial"/>
                </a:rPr>
                <a:t>T1.in = tru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AU" sz="3200" spc="-1" strike="noStrike">
                  <a:solidFill>
                    <a:srgbClr val="000000"/>
                  </a:solidFill>
                  <a:latin typeface="Arial"/>
                </a:rPr>
                <a:t>T0.out = tru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8" name="Picture 15" descr=""/>
          <p:cNvPicPr/>
          <p:nvPr/>
        </p:nvPicPr>
        <p:blipFill>
          <a:blip r:embed="rId1"/>
          <a:stretch/>
        </p:blipFill>
        <p:spPr>
          <a:xfrm>
            <a:off x="1752480" y="2328840"/>
            <a:ext cx="56390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Detection: read before wri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20"/>
          <p:cNvSpPr/>
          <p:nvPr/>
        </p:nvSpPr>
        <p:spPr>
          <a:xfrm>
            <a:off x="8459640" y="6664320"/>
            <a:ext cx="68436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36E1D2-BFE9-41D6-8CB7-00DC3D526732}" type="slidenum">
              <a:rPr b="0" lang="en-A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7"/>
          <p:cNvGrpSpPr/>
          <p:nvPr/>
        </p:nvGrpSpPr>
        <p:grpSpPr>
          <a:xfrm>
            <a:off x="579600" y="1925640"/>
            <a:ext cx="3385800" cy="1219320"/>
            <a:chOff x="579600" y="1925640"/>
            <a:chExt cx="3385800" cy="1219320"/>
          </a:xfrm>
        </p:grpSpPr>
        <p:sp>
          <p:nvSpPr>
            <p:cNvPr id="212" name="Bent Arrow 8"/>
            <p:cNvSpPr/>
            <p:nvPr/>
          </p:nvSpPr>
          <p:spPr>
            <a:xfrm rot="5400000">
              <a:off x="3051000" y="2230560"/>
              <a:ext cx="1067040" cy="761760"/>
            </a:xfrm>
            <a:prstGeom prst="pie">
              <a:avLst/>
            </a:prstGeom>
            <a:solidFill>
              <a:srgbClr val="333399"/>
            </a:solidFill>
            <a:ln w="25560">
              <a:solidFill>
                <a:srgbClr val="2323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Box 9"/>
            <p:cNvSpPr/>
            <p:nvPr/>
          </p:nvSpPr>
          <p:spPr>
            <a:xfrm>
              <a:off x="579600" y="1925640"/>
              <a:ext cx="261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AU" sz="2800" spc="-1" strike="noStrike">
                  <a:solidFill>
                    <a:srgbClr val="000000"/>
                  </a:solidFill>
                  <a:latin typeface="Arial"/>
                </a:rPr>
                <a:t>lock x, SIRE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7"/>
          <p:cNvGrpSpPr/>
          <p:nvPr/>
        </p:nvGrpSpPr>
        <p:grpSpPr>
          <a:xfrm>
            <a:off x="4708440" y="4363920"/>
            <a:ext cx="3096000" cy="1699920"/>
            <a:chOff x="4708440" y="4363920"/>
            <a:chExt cx="3096000" cy="1699920"/>
          </a:xfrm>
        </p:grpSpPr>
        <p:sp>
          <p:nvSpPr>
            <p:cNvPr id="215" name="Bent Arrow 11"/>
            <p:cNvSpPr/>
            <p:nvPr/>
          </p:nvSpPr>
          <p:spPr>
            <a:xfrm flipH="1" flipV="1" rot="5400000">
              <a:off x="4555800" y="4516560"/>
              <a:ext cx="1067040" cy="761760"/>
            </a:xfrm>
            <a:prstGeom prst="pie">
              <a:avLst/>
            </a:prstGeom>
            <a:solidFill>
              <a:srgbClr val="333399"/>
            </a:solidFill>
            <a:ln w="25560">
              <a:solidFill>
                <a:srgbClr val="2323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Box 12"/>
            <p:cNvSpPr/>
            <p:nvPr/>
          </p:nvSpPr>
          <p:spPr>
            <a:xfrm>
              <a:off x="5438160" y="4690080"/>
              <a:ext cx="23662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AU" sz="2800" spc="-1" strike="noStrike">
                  <a:solidFill>
                    <a:srgbClr val="000000"/>
                  </a:solidFill>
                  <a:latin typeface="Arial"/>
                </a:rPr>
                <a:t>write lock 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AU" sz="2800" spc="-1" strike="noStrike">
                  <a:solidFill>
                    <a:srgbClr val="000000"/>
                  </a:solidFill>
                  <a:latin typeface="Arial"/>
                </a:rPr>
                <a:t>TN.out = tru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AU" sz="2800" spc="-1" strike="noStrike">
                  <a:solidFill>
                    <a:srgbClr val="000000"/>
                  </a:solidFill>
                  <a:latin typeface="Arial"/>
                </a:rPr>
                <a:t>T0.in = tru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7" name="Picture 15" descr=""/>
          <p:cNvPicPr/>
          <p:nvPr/>
        </p:nvPicPr>
        <p:blipFill>
          <a:blip r:embed="rId1"/>
          <a:stretch/>
        </p:blipFill>
        <p:spPr>
          <a:xfrm>
            <a:off x="2065320" y="3144960"/>
            <a:ext cx="5261040" cy="1218960"/>
          </a:xfrm>
          <a:prstGeom prst="rect">
            <a:avLst/>
          </a:prstGeom>
          <a:ln w="0">
            <a:noFill/>
          </a:ln>
        </p:spPr>
      </p:pic>
      <p:sp>
        <p:nvSpPr>
          <p:cNvPr id="218" name="Oval Callout 14"/>
          <p:cNvSpPr/>
          <p:nvPr/>
        </p:nvSpPr>
        <p:spPr>
          <a:xfrm>
            <a:off x="4078440" y="2433600"/>
            <a:ext cx="2286000" cy="1244520"/>
          </a:xfrm>
          <a:prstGeom prst="wedgeEllipse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a3a3ef"/>
              </a:gs>
              <a:gs pos="100000">
                <a:srgbClr val="2424a8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can w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ct thi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Main Disadvantage: False posi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7"/>
          <p:cNvSpPr/>
          <p:nvPr/>
        </p:nvSpPr>
        <p:spPr>
          <a:xfrm>
            <a:off x="8459640" y="6664320"/>
            <a:ext cx="68436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55C777-C048-460A-8B87-98CF6E68E715}" type="slidenum">
              <a:rPr b="0" lang="en-A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3" descr=""/>
          <p:cNvPicPr/>
          <p:nvPr/>
        </p:nvPicPr>
        <p:blipFill>
          <a:blip r:embed="rId1"/>
          <a:stretch/>
        </p:blipFill>
        <p:spPr>
          <a:xfrm>
            <a:off x="347760" y="2590920"/>
            <a:ext cx="8448480" cy="1676160"/>
          </a:xfrm>
          <a:prstGeom prst="rect">
            <a:avLst/>
          </a:prstGeom>
          <a:ln w="0">
            <a:noFill/>
          </a:ln>
        </p:spPr>
      </p:pic>
      <p:grpSp>
        <p:nvGrpSpPr>
          <p:cNvPr id="222" name="Group 6"/>
          <p:cNvGrpSpPr/>
          <p:nvPr/>
        </p:nvGrpSpPr>
        <p:grpSpPr>
          <a:xfrm>
            <a:off x="4114800" y="1954080"/>
            <a:ext cx="1600200" cy="903600"/>
            <a:chOff x="4114800" y="1954080"/>
            <a:chExt cx="1600200" cy="903600"/>
          </a:xfrm>
        </p:grpSpPr>
        <p:sp>
          <p:nvSpPr>
            <p:cNvPr id="223" name="Curved Down Arrow 4"/>
            <p:cNvSpPr/>
            <p:nvPr/>
          </p:nvSpPr>
          <p:spPr>
            <a:xfrm>
              <a:off x="4114800" y="2324160"/>
              <a:ext cx="1600200" cy="533520"/>
            </a:xfrm>
            <a:custGeom>
              <a:avLst/>
              <a:gdLst>
                <a:gd name="textAreaLeft" fmla="*/ 332640 w 1600200"/>
                <a:gd name="textAreaRight" fmla="*/ 1131840 w 1600200"/>
                <a:gd name="textAreaTop" fmla="*/ 71280 h 533520"/>
                <a:gd name="textAreaBottom" fmla="*/ 4622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985" hR="21600" stAng="10800000" swAng="5400000"/>
                  <a:lnTo>
                    <a:pt x="10783" y="0"/>
                  </a:lnTo>
                  <a:arcTo wR="8985" hR="21600" stAng="-5400000" swAng="2510594"/>
                  <a:lnTo>
                    <a:pt x="20764" y="12500"/>
                  </a:lnTo>
                  <a:lnTo>
                    <a:pt x="18869" y="21600"/>
                  </a:lnTo>
                  <a:lnTo>
                    <a:pt x="15302" y="12500"/>
                  </a:lnTo>
                  <a:lnTo>
                    <a:pt x="17134" y="12500"/>
                  </a:lnTo>
                  <a:arcTo wR="8985" hR="21600" stAng="-2889406" swAng="-2366876"/>
                  <a:lnTo>
                    <a:pt x="9884" y="108"/>
                  </a:lnTo>
                  <a:arcTo wR="8985" hR="21600" stAng="-5543718" swAng="-5256282"/>
                  <a:close/>
                </a:path>
                <a:path fill="darkenLess" w="21600" h="21600">
                  <a:moveTo>
                    <a:pt x="0" y="21600"/>
                  </a:moveTo>
                  <a:arcTo wR="8985" hR="21600" stAng="10800000" swAng="5400000"/>
                  <a:lnTo>
                    <a:pt x="8985" y="0"/>
                  </a:lnTo>
                  <a:arcTo wR="8985" hR="21600" stAng="-5400000" swAng="143718"/>
                  <a:lnTo>
                    <a:pt x="9884" y="108"/>
                  </a:lnTo>
                  <a:arcTo wR="8985" hR="21600" stAng="-5543718" swAng="-5256282"/>
                  <a:close/>
                </a:path>
              </a:pathLst>
            </a:custGeom>
            <a:solidFill>
              <a:srgbClr val="333399"/>
            </a:solidFill>
            <a:ln w="25560">
              <a:solidFill>
                <a:srgbClr val="2323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Box 5"/>
            <p:cNvSpPr/>
            <p:nvPr/>
          </p:nvSpPr>
          <p:spPr>
            <a:xfrm>
              <a:off x="4426200" y="195408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o cyc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11"/>
          <p:cNvGrpSpPr/>
          <p:nvPr/>
        </p:nvGrpSpPr>
        <p:grpSpPr>
          <a:xfrm>
            <a:off x="4858200" y="3598920"/>
            <a:ext cx="2758680" cy="1797840"/>
            <a:chOff x="4858200" y="3598920"/>
            <a:chExt cx="2758680" cy="1797840"/>
          </a:xfrm>
        </p:grpSpPr>
        <p:grpSp>
          <p:nvGrpSpPr>
            <p:cNvPr id="226" name="Group 7"/>
            <p:cNvGrpSpPr/>
            <p:nvPr/>
          </p:nvGrpSpPr>
          <p:grpSpPr>
            <a:xfrm>
              <a:off x="4858200" y="4114080"/>
              <a:ext cx="2680920" cy="1282680"/>
              <a:chOff x="4858200" y="4114080"/>
              <a:chExt cx="2680920" cy="1282680"/>
            </a:xfrm>
          </p:grpSpPr>
          <p:sp>
            <p:nvSpPr>
              <p:cNvPr id="227" name="Bent Arrow 9"/>
              <p:cNvSpPr/>
              <p:nvPr/>
            </p:nvSpPr>
            <p:spPr>
              <a:xfrm flipV="1" rot="16200000">
                <a:off x="6624720" y="4266000"/>
                <a:ext cx="1066680" cy="761760"/>
              </a:xfrm>
              <a:prstGeom prst="pie">
                <a:avLst/>
              </a:prstGeom>
              <a:solidFill>
                <a:srgbClr val="333399"/>
              </a:solidFill>
              <a:ln w="25560">
                <a:solidFill>
                  <a:srgbClr val="23236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TextBox 10"/>
              <p:cNvSpPr/>
              <p:nvPr/>
            </p:nvSpPr>
            <p:spPr>
              <a:xfrm>
                <a:off x="4858200" y="4571280"/>
                <a:ext cx="19072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unnecessar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bor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" name="Multiply 10"/>
            <p:cNvSpPr/>
            <p:nvPr/>
          </p:nvSpPr>
          <p:spPr>
            <a:xfrm>
              <a:off x="7012080" y="3598920"/>
              <a:ext cx="604800" cy="609120"/>
            </a:xfrm>
            <a:prstGeom prst="pie">
              <a:avLst/>
            </a:prstGeom>
            <a:gradFill rotWithShape="0">
              <a:gsLst>
                <a:gs pos="0">
                  <a:srgbClr val="a3a3ef"/>
                </a:gs>
                <a:gs pos="100000">
                  <a:srgbClr val="2424a8"/>
                </a:gs>
              </a:gsLst>
              <a:lin ang="5400000"/>
            </a:gradFill>
            <a:ln w="9360">
              <a:solidFill>
                <a:srgbClr val="2f2f98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Prototype: Berkeley DB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mplemented in Oracle Berkeley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Open source: exten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lready includes SI and 2-phase locking (S2P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age-level locking: avoids phant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odified 692 lines of code out of 200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Most changes related to locking: increased locking code by 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5"/>
          <p:cNvSpPr/>
          <p:nvPr/>
        </p:nvSpPr>
        <p:spPr>
          <a:xfrm>
            <a:off x="8459640" y="6664320"/>
            <a:ext cx="68436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5C3522-67C0-4620-A274-395BEC204EB7}" type="slidenum">
              <a:rPr b="0" lang="en-A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Experimental setu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Question: what are the costs and benefits of Serializable SI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Compa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tandard 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erializable SI (S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erializable isolation with two-phase locking (S2P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SmallBank benchmark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[ICDE2008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miliar banking-style transactions (balance, deposit, transfer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cludes a write skew by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Update-he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Benchmark run on a commodity PC running Linux 2.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8459640" y="6664320"/>
            <a:ext cx="68436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086242-B2FE-48A9-97AB-B8C8196A3AA2}" type="slidenum">
              <a:rPr b="0" lang="en-A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Experimental scenario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cenario 1: short trans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medium/high contention (1% probability of collis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PU bound (no waits for I/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cenario 2: long trans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medium/high cont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/O bound (flushing the lo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cenario 3: low con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low probability of collisions (0.1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/O b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Graphs show avg of 5 runs &amp; 95% confidence interv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8459640" y="6664320"/>
            <a:ext cx="68436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89DC11-8E45-4CD3-97FA-6E6CFC4AF278}" type="slidenum">
              <a:rPr b="0" lang="en-A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5" descr=""/>
          <p:cNvPicPr/>
          <p:nvPr/>
        </p:nvPicPr>
        <p:blipFill>
          <a:blip r:embed="rId1"/>
          <a:stretch/>
        </p:blipFill>
        <p:spPr>
          <a:xfrm>
            <a:off x="762120" y="1398600"/>
            <a:ext cx="7608600" cy="482292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400" spc="-1" strike="noStrike">
                <a:solidFill>
                  <a:srgbClr val="000000"/>
                </a:solidFill>
                <a:latin typeface="Arial"/>
              </a:rPr>
              <a:t>Scenario 1 (short txns): Throughpu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7"/>
          <p:cNvSpPr/>
          <p:nvPr/>
        </p:nvSpPr>
        <p:spPr>
          <a:xfrm>
            <a:off x="8459640" y="6664320"/>
            <a:ext cx="68436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9EAF02-3F98-4472-9C9B-7BBC37AEBB0A}" type="slidenum">
              <a:rPr b="0" lang="en-A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7"/>
          <p:cNvGrpSpPr/>
          <p:nvPr/>
        </p:nvGrpSpPr>
        <p:grpSpPr>
          <a:xfrm>
            <a:off x="2811960" y="2357280"/>
            <a:ext cx="4122360" cy="1159200"/>
            <a:chOff x="2811960" y="2357280"/>
            <a:chExt cx="4122360" cy="1159200"/>
          </a:xfrm>
        </p:grpSpPr>
        <p:sp>
          <p:nvSpPr>
            <p:cNvPr id="243" name="Bent Arrow 5"/>
            <p:cNvSpPr/>
            <p:nvPr/>
          </p:nvSpPr>
          <p:spPr>
            <a:xfrm rot="5400000">
              <a:off x="6019560" y="2601720"/>
              <a:ext cx="1067400" cy="761760"/>
            </a:xfrm>
            <a:prstGeom prst="pie">
              <a:avLst/>
            </a:prstGeom>
            <a:solidFill>
              <a:srgbClr val="333399"/>
            </a:solidFill>
            <a:ln w="25560">
              <a:solidFill>
                <a:srgbClr val="2323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Box 6"/>
            <p:cNvSpPr/>
            <p:nvPr/>
          </p:nvSpPr>
          <p:spPr>
            <a:xfrm>
              <a:off x="2811960" y="2357280"/>
              <a:ext cx="3736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Arial"/>
                </a:rPr>
                <a:t>But SI is NOT serializable!_x0010_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napshot isolation ≠ serializ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hy you should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revious work: applications deal with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Our approach: fix the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mplementation and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8459640" y="6664320"/>
            <a:ext cx="68436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12B11E-6CF1-472D-B830-9B265A5F6740}" type="slidenum">
              <a:rPr b="0" lang="en-A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Scenario 1: abort rates at MPL 2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8"/>
          <p:cNvSpPr/>
          <p:nvPr/>
        </p:nvSpPr>
        <p:spPr>
          <a:xfrm>
            <a:off x="8459640" y="6664320"/>
            <a:ext cx="68436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538F80-D9E6-431C-9067-78E2266C7820}" type="slidenum">
              <a:rPr b="0" lang="en-A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4" descr=""/>
          <p:cNvPicPr/>
          <p:nvPr/>
        </p:nvPicPr>
        <p:blipFill>
          <a:blip r:embed="rId1"/>
          <a:stretch/>
        </p:blipFill>
        <p:spPr>
          <a:xfrm>
            <a:off x="1219320" y="1557360"/>
            <a:ext cx="670536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800" spc="-1" strike="noStrike">
                <a:solidFill>
                  <a:srgbClr val="000000"/>
                </a:solidFill>
                <a:latin typeface="Arial"/>
              </a:rPr>
              <a:t>Scenario 2 (long txns): Throughput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6"/>
          <p:cNvSpPr/>
          <p:nvPr/>
        </p:nvSpPr>
        <p:spPr>
          <a:xfrm>
            <a:off x="8459640" y="6664320"/>
            <a:ext cx="68436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320979-C0C3-4327-85DA-E4107B1A2C2A}" type="slidenum">
              <a:rPr b="0" lang="en-A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5" descr=""/>
          <p:cNvPicPr/>
          <p:nvPr/>
        </p:nvPicPr>
        <p:blipFill>
          <a:blip r:embed="rId1"/>
          <a:srcRect l="0" t="0" r="16808" b="0"/>
          <a:stretch/>
        </p:blipFill>
        <p:spPr>
          <a:xfrm>
            <a:off x="898560" y="1417680"/>
            <a:ext cx="6111720" cy="45720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5" descr=""/>
          <p:cNvPicPr/>
          <p:nvPr/>
        </p:nvPicPr>
        <p:blipFill>
          <a:blip r:embed="rId2"/>
          <a:srcRect l="86141" t="32689" r="0" b="43622"/>
          <a:stretch/>
        </p:blipFill>
        <p:spPr>
          <a:xfrm>
            <a:off x="6988320" y="2700360"/>
            <a:ext cx="10555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Scenario 2: abort rates at MPL 2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6"/>
          <p:cNvSpPr/>
          <p:nvPr/>
        </p:nvSpPr>
        <p:spPr>
          <a:xfrm>
            <a:off x="8459640" y="6664320"/>
            <a:ext cx="68436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63EC59-1A35-4215-B661-1730AA8A3303}" type="slidenum">
              <a:rPr b="0" lang="en-A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1"/>
          <a:stretch/>
        </p:blipFill>
        <p:spPr>
          <a:xfrm>
            <a:off x="568440" y="1557360"/>
            <a:ext cx="81183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Scenario 3 (low cont.): Throughpu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8459640" y="6664320"/>
            <a:ext cx="68436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A2A688-EDF6-4A1C-A3D9-BC0B5750C9F5}" type="slidenum">
              <a:rPr b="0" lang="en-A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1006560" y="1417680"/>
            <a:ext cx="71308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New algorithm for serializable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line, dynamic, and general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ification to standard Snapshot Is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Keeps the features that make SI attractive: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Readers don’t block writers, much better scalability than S2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easible to add to a Snapshot Isolation DBMS with minor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8459640" y="6664320"/>
            <a:ext cx="68436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AD1276-7D9E-4FCA-919A-85E86EA68862}" type="slidenum">
              <a:rPr b="0" lang="en-A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Ongoing wor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urther reduce the runtime 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Less false posi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pplying the algorithm to other eng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Row-level versioning, dealing with phant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8459640" y="6664320"/>
            <a:ext cx="68436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DAFAD7-A370-416F-9FD9-AE05B09DA18E}" type="slidenum">
              <a:rPr b="0" lang="en-A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Snapshot isolation ≠ serializab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napshot iso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actions read a consistent snapshot of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MS maintains multiple versions of data items to avoid locking for re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actions don’t see concurrent wr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quivalent to a serial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serial execution, one transaction would see the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9"/>
          <p:cNvSpPr/>
          <p:nvPr/>
        </p:nvSpPr>
        <p:spPr>
          <a:xfrm>
            <a:off x="8459640" y="6664320"/>
            <a:ext cx="68436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1A3DB0-456F-49EC-A8F3-0E31E7362527}" type="slidenum">
              <a:rPr b="0" lang="en-A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Why you should ca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4"/>
          <p:cNvSpPr/>
          <p:nvPr/>
        </p:nvSpPr>
        <p:spPr>
          <a:xfrm>
            <a:off x="8459640" y="6664320"/>
            <a:ext cx="68436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100AB6-59A4-466E-B5CD-2DF2EA387C23}" type="slidenum">
              <a:rPr b="0" lang="en-A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57200" y="3409920"/>
          <a:ext cx="3733920" cy="1279440"/>
        </p:xfrm>
        <a:graphic>
          <a:graphicData uri="http://schemas.openxmlformats.org/drawingml/2006/table">
            <a:tbl>
              <a:tblPr/>
              <a:tblGrid>
                <a:gridCol w="1244520"/>
                <a:gridCol w="1244520"/>
                <a:gridCol w="124488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ct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if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u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n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Jun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dut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Jun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dut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5257800" y="4535640"/>
          <a:ext cx="3657600" cy="127944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ct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if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u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n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Jun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dut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Jun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eser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5257800" y="2093760"/>
          <a:ext cx="3657600" cy="127980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ct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if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u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n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Jun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eser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Jun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dut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1" name="Bent Arrow 9"/>
          <p:cNvSpPr/>
          <p:nvPr/>
        </p:nvSpPr>
        <p:spPr>
          <a:xfrm>
            <a:off x="3048120" y="2622600"/>
            <a:ext cx="2209680" cy="714240"/>
          </a:xfrm>
          <a:prstGeom prst="pie">
            <a:avLst/>
          </a:prstGeom>
          <a:solidFill>
            <a:srgbClr val="2d2d8a"/>
          </a:solidFill>
          <a:ln w="25560">
            <a:solidFill>
              <a:srgbClr val="1e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13"/>
          <p:cNvGrpSpPr/>
          <p:nvPr/>
        </p:nvGrpSpPr>
        <p:grpSpPr>
          <a:xfrm>
            <a:off x="3048120" y="4763880"/>
            <a:ext cx="2209680" cy="1052280"/>
            <a:chOff x="3048120" y="4763880"/>
            <a:chExt cx="2209680" cy="1052280"/>
          </a:xfrm>
        </p:grpSpPr>
        <p:sp>
          <p:nvSpPr>
            <p:cNvPr id="163" name="Bent Arrow 10"/>
            <p:cNvSpPr/>
            <p:nvPr/>
          </p:nvSpPr>
          <p:spPr>
            <a:xfrm flipV="1">
              <a:off x="3048120" y="4763520"/>
              <a:ext cx="2209680" cy="1052280"/>
            </a:xfrm>
            <a:prstGeom prst="pie">
              <a:avLst/>
            </a:prstGeom>
            <a:solidFill>
              <a:srgbClr val="333399"/>
            </a:solidFill>
            <a:ln w="25560">
              <a:solidFill>
                <a:srgbClr val="2323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Box 12"/>
            <p:cNvSpPr/>
            <p:nvPr/>
          </p:nvSpPr>
          <p:spPr>
            <a:xfrm>
              <a:off x="3881160" y="5025960"/>
              <a:ext cx="506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T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Vendor advi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4176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racl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Database inconsistencies can result unless such application-level consistency checks are coded with this in mind, even when using serializable transactions.</a:t>
            </a:r>
            <a:r>
              <a:rPr b="0" i="1" lang="en-A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greSQL's Serializable mod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not guarantee serializable executio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r>
              <a:rPr b="0" i="1" lang="en-A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8459640" y="6664320"/>
            <a:ext cx="68436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ADFB63-1A6B-4D2A-BB6E-C001AF858E1D}" type="slidenum">
              <a:rPr b="0" lang="en-A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Previous wor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. Berenson, P. Bernstein, J. Gray, J. Melton, E. O'Neil, P. O'Neil in SIGMOD1995: “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A Critique of ANSI SQL Isolation Levels”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. Bernstein, P. Lewis and S. Lu in ICDE2000: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Semantic Conditions for Correctness at Different Isolation Levels”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. Fekete, D. Liarokapis, E. O'Neil, P. O’Neil, D. Shasha in TODS2005: “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Making Snapshot Isolation Serializable”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nalyze the graph of transaction confli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onditions on the graph for application to be serializable at 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f a </a:t>
            </a:r>
            <a:r>
              <a:rPr b="0" i="1" lang="en-AU" sz="1600" spc="-1" strike="noStrike">
                <a:solidFill>
                  <a:srgbClr val="000000"/>
                </a:solidFill>
                <a:latin typeface="Arial"/>
              </a:rPr>
              <a:t>dangerous structure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s found, modify the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. Jorwekar, A. Fekete, K. Ramamritham, S. Sudarshan in VLDB2007: “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Automating the Detection of Snapshot Isolation Anomalies”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. Alomari, M. Cahill, A. Fekete, U. Röhm in ICDE2008:</a:t>
            </a:r>
            <a:br>
              <a:rPr sz="1900"/>
            </a:b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“The Cost of Serializability on Platforms That Use Snapshot Isolation”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8459640" y="6664320"/>
            <a:ext cx="68436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1F36D2-EAC6-4132-B4A7-F1EA12DACE90}" type="slidenum">
              <a:rPr b="0" lang="en-A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Static analysis of SI anomali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19"/>
          <p:cNvSpPr/>
          <p:nvPr/>
        </p:nvSpPr>
        <p:spPr>
          <a:xfrm>
            <a:off x="8459640" y="6664320"/>
            <a:ext cx="68436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168E06-2963-46B2-99C8-2D75601834CE}" type="slidenum">
              <a:rPr b="0" lang="en-A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Placeholder 8" descr=""/>
          <p:cNvPicPr/>
          <p:nvPr/>
        </p:nvPicPr>
        <p:blipFill>
          <a:blip r:embed="rId1"/>
          <a:srcRect l="0" t="-76350" r="0" b="-76350"/>
          <a:stretch/>
        </p:blipFill>
        <p:spPr>
          <a:xfrm>
            <a:off x="1989000" y="2057400"/>
            <a:ext cx="5486400" cy="4114800"/>
          </a:xfrm>
          <a:prstGeom prst="rect">
            <a:avLst/>
          </a:prstGeom>
          <a:ln w="0">
            <a:noFill/>
          </a:ln>
        </p:spPr>
      </p:pic>
      <p:grpSp>
        <p:nvGrpSpPr>
          <p:cNvPr id="174" name="Group 9"/>
          <p:cNvGrpSpPr/>
          <p:nvPr/>
        </p:nvGrpSpPr>
        <p:grpSpPr>
          <a:xfrm>
            <a:off x="609480" y="4292280"/>
            <a:ext cx="3165480" cy="1157400"/>
            <a:chOff x="609480" y="4292280"/>
            <a:chExt cx="3165480" cy="1157400"/>
          </a:xfrm>
        </p:grpSpPr>
        <p:sp>
          <p:nvSpPr>
            <p:cNvPr id="175" name="Bent Arrow 10"/>
            <p:cNvSpPr/>
            <p:nvPr/>
          </p:nvSpPr>
          <p:spPr>
            <a:xfrm flipV="1" rot="16200000">
              <a:off x="2860560" y="4444200"/>
              <a:ext cx="1066680" cy="761760"/>
            </a:xfrm>
            <a:prstGeom prst="pie">
              <a:avLst/>
            </a:prstGeom>
            <a:solidFill>
              <a:srgbClr val="333399"/>
            </a:solidFill>
            <a:ln w="25560">
              <a:solidFill>
                <a:srgbClr val="2323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Box 11"/>
            <p:cNvSpPr/>
            <p:nvPr/>
          </p:nvSpPr>
          <p:spPr>
            <a:xfrm>
              <a:off x="609480" y="4989960"/>
              <a:ext cx="255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coming conflic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12"/>
          <p:cNvGrpSpPr/>
          <p:nvPr/>
        </p:nvGrpSpPr>
        <p:grpSpPr>
          <a:xfrm>
            <a:off x="5417280" y="4292280"/>
            <a:ext cx="3161520" cy="1066680"/>
            <a:chOff x="5417280" y="4292280"/>
            <a:chExt cx="3161520" cy="1066680"/>
          </a:xfrm>
        </p:grpSpPr>
        <p:sp>
          <p:nvSpPr>
            <p:cNvPr id="178" name="Bent Arrow 13"/>
            <p:cNvSpPr/>
            <p:nvPr/>
          </p:nvSpPr>
          <p:spPr>
            <a:xfrm flipH="1" flipV="1" rot="5400000">
              <a:off x="5264640" y="4444200"/>
              <a:ext cx="1066680" cy="762120"/>
            </a:xfrm>
            <a:prstGeom prst="pie">
              <a:avLst/>
            </a:prstGeom>
            <a:solidFill>
              <a:srgbClr val="333399"/>
            </a:solidFill>
            <a:ln w="25560">
              <a:solidFill>
                <a:srgbClr val="2323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Box 14"/>
            <p:cNvSpPr/>
            <p:nvPr/>
          </p:nvSpPr>
          <p:spPr>
            <a:xfrm>
              <a:off x="6197400" y="4897800"/>
              <a:ext cx="238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utgoing conflic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15"/>
          <p:cNvGrpSpPr/>
          <p:nvPr/>
        </p:nvGrpSpPr>
        <p:grpSpPr>
          <a:xfrm>
            <a:off x="3164040" y="2697120"/>
            <a:ext cx="1750680" cy="917640"/>
            <a:chOff x="3164040" y="2697120"/>
            <a:chExt cx="1750680" cy="917640"/>
          </a:xfrm>
        </p:grpSpPr>
        <p:sp>
          <p:nvSpPr>
            <p:cNvPr id="181" name="Bent Arrow 16"/>
            <p:cNvSpPr/>
            <p:nvPr/>
          </p:nvSpPr>
          <p:spPr>
            <a:xfrm rot="5400000">
              <a:off x="4152600" y="2852640"/>
              <a:ext cx="762120" cy="762120"/>
            </a:xfrm>
            <a:prstGeom prst="pie">
              <a:avLst/>
            </a:prstGeom>
            <a:solidFill>
              <a:srgbClr val="333399"/>
            </a:solidFill>
            <a:ln w="25560">
              <a:solidFill>
                <a:srgbClr val="2323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Box 17"/>
            <p:cNvSpPr/>
            <p:nvPr/>
          </p:nvSpPr>
          <p:spPr>
            <a:xfrm>
              <a:off x="3164040" y="2697120"/>
              <a:ext cx="98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yc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Box 18"/>
          <p:cNvSpPr/>
          <p:nvPr/>
        </p:nvSpPr>
        <p:spPr>
          <a:xfrm>
            <a:off x="4046400" y="4713120"/>
            <a:ext cx="121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ivo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4"/>
          <p:cNvSpPr/>
          <p:nvPr/>
        </p:nvSpPr>
        <p:spPr>
          <a:xfrm>
            <a:off x="272160" y="1557360"/>
            <a:ext cx="87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static dependency graph, check for dangerous struct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Limitations of previous wor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etermining the conflict graph is non-triv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peat for every change to the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d hoc queries not sup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ifficult to automate: reasoning required to avoid false posi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8459640" y="6664320"/>
            <a:ext cx="68436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EDA0D8-9823-41D4-8BC6-3EB8C83BAD98}" type="slidenum">
              <a:rPr b="0" lang="en-A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Our approac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New algorithm for serializable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line, dyna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difications to standard Snapshot Is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ore Ide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tect read-write conflicts at run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rt transactions with consecutive rw-ed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n’t do full cycle de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8459640" y="6664320"/>
            <a:ext cx="68436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9A66E6-6E9D-442A-963E-A5C8A296A256}" type="slidenum">
              <a:rPr b="0" lang="en-A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2T00:12:16Z</dcterms:created>
  <dc:creator>Michael Cahill</dc:creator>
  <dc:description/>
  <dc:language>en-US</dc:language>
  <cp:lastModifiedBy>Michael Cahill</cp:lastModifiedBy>
  <dcterms:modified xsi:type="dcterms:W3CDTF">2008-06-12T07:00:04Z</dcterms:modified>
  <cp:revision>21</cp:revision>
  <dc:subject/>
  <dc:title>Serializable Isolation for Snapshot Databases</dc:title>
</cp:coreProperties>
</file>